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7B561-208C-4695-BA88-1DB16E88A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BBB5B-5CE3-45AF-8BBB-3A75B4342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3504D-4BA9-4919-BCF2-ADD0D3960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7412A-5136-47BC-924C-F29F0C01C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D782C-0EE1-4B12-9A5B-E13112C0E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B9D30-0CA5-4599-82A6-B0E08A0B4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9D5B6-29F2-46CA-8E30-2E9C37135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E545B-C988-48AF-B0BD-668F40CE2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78128-12DA-4985-AB70-EEB3AF5CB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9AB75-B52A-430F-9DD0-F6CCCB448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3E090-4822-42C6-917E-517F86AFE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1C9E2-AE22-42BD-A053-2BECF7511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D8F2-790B-4FFB-BAAD-A7A3FA6D74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29760"/>
            <a:ext cx="7772400" cy="84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ms of Equations of Lines</a:t>
            </a:r>
            <a:endParaRPr b="0" lang="en-US" sz="3600" spc="-1" strike="noStrike">
              <a:solidFill>
                <a:srgbClr val="000000"/>
              </a:solidFill>
              <a:latin typeface="Arial"/>
            </a:endParaRPr>
          </a:p>
        </p:txBody>
      </p:sp>
      <p:sp>
        <p:nvSpPr>
          <p:cNvPr id="42" name="PlaceHolder 2"/>
          <p:cNvSpPr>
            <a:spLocks noGrp="1"/>
          </p:cNvSpPr>
          <p:nvPr>
            <p:ph/>
          </p:nvPr>
        </p:nvSpPr>
        <p:spPr>
          <a:xfrm>
            <a:off x="760320" y="1189080"/>
            <a:ext cx="7772400" cy="533880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alytical Intelligence</a:t>
            </a:r>
            <a:r>
              <a:rPr b="1" lang="en-US" sz="2400" spc="-1" strike="noStrike">
                <a:solidFill>
                  <a:srgbClr val="000000"/>
                </a:solidFill>
                <a:latin typeface="Arial"/>
              </a:rPr>
              <a:t>:</a:t>
            </a:r>
            <a:r>
              <a:rPr b="0" lang="en-US" sz="2400" spc="-1" strike="noStrike">
                <a:solidFill>
                  <a:srgbClr val="000000"/>
                </a:solidFill>
                <a:latin typeface="Arial"/>
              </a:rPr>
              <a:t> Compare and contrast the various forms of equations of lines. Create a flow chart, a table, or any other product to present your ideas to the class. Be sure to consider the advantages and disadvantages of each form.</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actical Intelligence</a:t>
            </a:r>
            <a:r>
              <a:rPr b="1" lang="en-US" sz="2400" spc="-1" strike="noStrike">
                <a:solidFill>
                  <a:srgbClr val="000000"/>
                </a:solidFill>
                <a:latin typeface="Arial"/>
              </a:rPr>
              <a:t>:</a:t>
            </a:r>
            <a:r>
              <a:rPr b="0" lang="en-US" sz="2400" spc="-1" strike="noStrike">
                <a:solidFill>
                  <a:srgbClr val="000000"/>
                </a:solidFill>
                <a:latin typeface="Arial"/>
              </a:rPr>
              <a:t> Decide how and when each form of the equation of a line should be used. When is it best to use which? What are the strengths and weaknesses of each form? Find a way to present your conclusions to the clas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reative Intelligence</a:t>
            </a:r>
            <a:r>
              <a:rPr b="1" lang="en-US" sz="2400" spc="-1" strike="noStrike">
                <a:solidFill>
                  <a:srgbClr val="000000"/>
                </a:solidFill>
                <a:latin typeface="Arial"/>
              </a:rPr>
              <a:t>:</a:t>
            </a:r>
            <a:r>
              <a:rPr b="0" lang="en-US" sz="2400" spc="-1" strike="noStrike">
                <a:solidFill>
                  <a:srgbClr val="000000"/>
                </a:solidFill>
                <a:latin typeface="Arial"/>
              </a:rPr>
              <a:t> Put each form of the equation of a line on trial. Prosecutors should try to convince the jury that a form is not needed, while the defense should defend its usefulness. Enact your trial with group members playing the various forms of the equations, the prosecuting attorneys, and the defense attorneys. The rest of the class will be the jury, and the teacher will be the ju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5:52:40Z</dcterms:created>
  <dc:creator>CABELL BOE</dc:creator>
  <dc:description/>
  <dc:language>en-US</dc:language>
  <cp:lastModifiedBy>CABELL BOE</cp:lastModifiedBy>
  <dcterms:modified xsi:type="dcterms:W3CDTF">2009-06-01T15:52:43Z</dcterms:modified>
  <cp:revision>1</cp:revision>
  <dc:subject/>
  <dc:title>Forms of Equations of Lines</dc:title>
</cp:coreProperties>
</file>